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4D1-667A-4F54-B62B-B9C323C8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7AF-2621-43D6-83F0-A1DFE2D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40FF-194D-435D-8F5F-D223EA30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A94EB-7309-4A54-B616-956657EF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BAE6C-F5CA-468C-B3DC-8D361774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13DBB-DFC4-40E9-B90E-FE96AEF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DBBD7-F5C1-44FA-8448-E990506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859C0-F954-47DD-B287-80260B5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DB826-3F3A-483A-8FAB-485D7E94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4A7F6-89EA-4886-AC40-606AFE0A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BB2BF-A4DA-4D25-A92A-61B2444F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9FF6D-6C90-4E88-AE45-1D753832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656-9A98-43A8-B772-3A24F4B8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385AF-DED9-4BFE-85F5-B9013C6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EAD14-FEA7-4E85-A670-B28A3BD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6FA8E-369F-4E56-9168-5BD24FEF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D75AE-F7E5-4054-B836-6DDE808E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9C9CD-BB7C-4D7E-8809-06F6200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F7056-B30C-40F8-ADD3-D6ADBB06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1F7B3-489D-430B-B4D7-9662DF8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6F906-0289-492A-A4CA-CC09A7E6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5E7A3-D658-4AC2-B370-54374744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A670B-A06B-4C05-B422-452D4C91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804-9A18-4565-9E09-D30946F0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12D7C-2B80-410C-880A-29712302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80251-A4FC-4867-A855-74B9730C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89C39-8F0C-4A25-9522-318B9EB0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5510D-F8BB-435F-B1CB-7028F84D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6883-8633-4170-9ADF-D67FD96A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389F2-258C-40C1-9C57-3E3706F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FE08D-1A6B-43BF-8712-F2C90B13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5B65-FB2A-4225-B40E-F0C84A7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34401-54C1-4AB8-BC42-F419A806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76EEB-F77D-446E-BAE3-FCE3003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FD12-CD55-43CE-B79E-1793E127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A0235-09C4-4720-8A73-AF7712A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22FCF-FBCD-47B9-A69F-F0E3AA16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B463B-B297-494A-A07A-22FCB78D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99D29-07A6-4560-BA0C-185759D3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5BC06-E32B-4258-80D8-C1DA43F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5C8F4-6C06-43B8-B61D-435BF30D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CE675-F1A6-48A7-80AA-285F0322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8383E-B40B-4551-BF1C-3DC7014B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E531D-2E61-40E6-BCCA-E31B57CB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50F85-9EBC-4A87-916A-83B7204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F9AC-0175-43E6-A363-577AB09C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65629-9ABB-4CD2-AEED-10D83A5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956F5-7B3E-4627-9B2C-A7A06F07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FEB71-BE82-407F-A420-F5F6694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DD0BB-A1D9-462F-8ADD-5175094A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CF043-0093-420C-9ADD-5C7C144D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C129F-CE95-4F4C-9675-83F94600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48678-0436-420B-9609-2A3A1F4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540E2-0493-4E14-94C6-5A8B836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7579C-5C78-4553-90B5-9A45A2F5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41BA5-0DEC-4ED2-AFB0-58B53B44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A810-26EF-4EF0-AF3F-815AA434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3B1B6-9AA9-417A-95E4-F3A9F2EE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DD040-E61F-4D57-AFD6-CBC4FA77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532BA-4347-46D5-B6D8-5536E9AF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1F06A-CB72-4DDD-AE01-E998B360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80A5B-624A-4E0F-8919-D14A3A4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9BC0F-B657-4E0F-AAD8-13DBCBE7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331E0-9108-4FEB-92A8-51514E2F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77530-A1F3-46B5-8624-AA9E6931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CB112-8FD7-4193-BC3A-5B4D0990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A8ECF-D49F-4EF5-B89C-3361B71A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5D25-EC52-4FC1-AE7B-C7978CAF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BF2ED-54D4-4E94-AFDE-3ECCD01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E1BBF-1ADD-4FD3-97AB-F38482B6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10B77-FE48-4813-BED8-A23D7CC4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9D259-98B9-4D41-A510-A5392755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83755-5FCA-45D0-A6F3-004DD61C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08F3F-150F-456F-B77B-4D4D58B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F3EAA-2C2B-428E-B88F-1224C66E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412B5-5153-4440-A31A-164400B1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1543C-0C26-4A81-B7BA-0B0A5B51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F8737-79DD-4C12-92B5-6E3229C6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F899-A513-4206-BCC0-BE181551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E519D-6D58-4C0B-BE7A-4443612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65D3E-B442-4A9B-9702-2039F6F7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15E4E-1EEB-4364-AA40-6EF39BA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F568B-8735-49C3-9BDE-6708C402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E97C4-3F5A-48D7-87E2-50BDF6CD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DB6FE-94AB-47A5-B99D-B940B2E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6A0EF-E427-42D3-A6A1-D8F32D8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1868E-0DA8-44DE-B1B5-5E3949A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0B79B-9F82-4B0B-A43C-B921FBC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77939-D028-4201-9958-8887A4EF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2249-BBD6-4E20-AFB5-16281AC6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648FC-3BB3-479E-AEFB-0AFA843E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ED6AB-4198-4F7D-BEFE-7F95FCE5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10CDC-1B70-43E3-935E-D11164EB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DA961-200B-4D0B-9BDA-D017E98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CF4A3-27ED-4A69-B896-6B76F74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1853D-FC72-4046-B478-25150A42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CB8F1-AADF-4720-9107-5AE5B88E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2004A-16EB-465C-834F-FDFF90E3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0B222-846B-430D-A73C-2BD88EE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3C7B9-47FC-48DC-8FAA-68A0210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2968-0423-46CC-ACF5-D0C31F9A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563E6-9EF9-46FE-AE44-BF019314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81CDC-2E0B-4737-8C1E-F9CEE18D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22FA3-410D-4B8A-AA2E-B39F2A92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4BCF4-902F-487C-BFF3-61808673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188A0-497F-4373-B556-0A37FF78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E2C49-6220-45B2-BB09-A3A541FB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76B36-4D2C-444F-A94A-F2762C5F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CA0FD-1AE7-4FED-AD1E-FC87865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71C3E-0B83-40D0-8A8D-E223CF25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D26FB-93B0-402F-9571-74055622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CD3-7177-403E-A8B4-1E15E8E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5A1-40CD-4A13-A379-D215637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2219D-C52F-4080-B71A-4E721F2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C6F62-A5B4-49A6-8C30-C880E6A8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CD123-4594-4D62-A0E7-CFF4436A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5DF98-53B7-4FFF-A456-28968976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9B6FE-86D7-4020-BB52-646328F4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FDBC7-AEDA-4894-9B34-92D0CE90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1BB99-AB3D-4B0B-9D4E-C3946F4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1621D-2D4B-4024-AE36-8CFA90A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ACE7E-F991-454F-A276-43339264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889F8-7460-4361-973E-AA90F22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B93-DF07-47E7-8509-F5B4739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9A199-A46A-40B2-8E35-FD98B53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CE222-971E-4237-9841-01B9863D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04F72-0A84-4163-98F5-4763BB9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AEDDF-4ACF-448D-A0AF-ED30EE4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8EDB7-062A-4DB2-8062-9ABF727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969EF-9632-4635-9FD2-3F1DFFC2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DEFD8-6BB0-4A12-ABD3-0CC1613F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3D61F-0885-438C-BCD8-BE9B880B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C6C71-BCC8-4B9F-97C9-66405E2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61587-075D-45E2-81FA-92649D90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752C-3486-4BD4-81AE-4DBD1BDF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569883-3C28-4844-8FEC-2A587C1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CF6A4-3918-43F5-9951-9873CB71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59DEC-A78F-4112-9AA5-54CE3A00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996F67-E6E2-485F-9E08-0BF9EA6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1D10D-9E67-4D2F-A605-E62FF7F4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0EE79-6068-4E7A-8364-34BAB5A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824CC-15CD-417E-82D4-48193F05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946EB-C436-4C2F-A759-D4F318FD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DD057-0BEA-452C-A135-954C9B9E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CAFC4-7A94-477A-B34D-F0082FBA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C236-9F9A-4103-B998-100FE763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A5948-C51B-48C3-BA9A-47A33AC9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591C7-FE60-4BC2-A98C-8D52E9DE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EF758-F360-4A9D-B4AA-E0B48E0B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FF571-64AF-4459-9982-396AA434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461B7-7B73-4AFA-9F20-33D3535E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71AE50-926B-4B77-B055-EA8DE61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D8E6B-18EC-4B2D-8CBF-E5DADE65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B740A-BED8-486D-B56A-D40DF5F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527491-BC42-4F25-A887-87E71A1B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C75793-976D-49D8-8B22-51C32CD0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8787-B7D6-447E-B9AE-C78020FA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BC203F-3306-41C5-9B9A-FC99DF21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06C9F3-1BF8-403C-975B-DAA1C05E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8051F9-D0E2-4A5E-BFC2-B307B981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C25121-31EB-4A51-9F5D-FDBB0CB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29657A-18E2-4AB3-B1EA-84DCAFF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26B63-298D-41D0-A2B8-6D8258E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063360-66FB-4D91-9938-FC2866B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204A4-52BD-4B19-806D-7698A33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296DC-E664-42BD-A9D2-8E7C69F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B390B-7589-43E9-981C-DCF5D33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7BDF-BCFC-45D9-B835-802E811C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2B4B5-F54E-44B6-A204-CA265698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0BBD2-7415-4134-A517-EAD384A3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B4283-4EB6-4667-AC74-B92F5FB6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D5245-0D60-49A1-8773-FB023525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50BF84-D6A2-4F7F-9F85-243EF0B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7C52B-0418-43FD-B206-79AC072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ED749-FC40-445C-A1CE-9100CB8C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C043CB-B8FD-4EC5-B754-8FF94A6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B72D6B-677C-4163-B49A-1F500190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0C268-F207-4CCB-A3EA-C2F939D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0F3F-9931-4358-AE28-51376A9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50DFA8-B306-4767-9FF2-CE22B7D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01D677-3622-4D6E-9248-1CBD9C2E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703D9C-D111-4992-B608-AA477D58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D0F02-3B09-4006-8C1E-8C094C1D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E5D9A-475E-4AFA-9FA1-424112B2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4FDF16-2025-4B79-A78E-E90112BC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3481ED-079C-46EA-A04B-862B2F9A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15EAF7-0A5D-41E3-AAD5-FEC04A11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288C94-0ECD-47A1-AE62-40B2E8C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AC4751-B303-48C4-A238-8044A428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2086-6418-4F8D-A9D3-128DF39B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B99B75-4C27-42F4-989D-19C78E92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8070E4-3957-4119-B818-241E916A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CB9ED1-BCBF-48A7-BF7B-F4E192E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19569C-1B6E-42C5-B375-790031F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6DB85-081A-48CD-8FEA-26E3AC03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166627-4932-464A-B998-74DC5E9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8896D9-5836-4C83-8D17-1A67E371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F57B-48F8-4BB7-934A-C6A0F7D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52EF8-F30D-4E85-9B9B-D9D1B66F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911-B627-4C48-AB04-335C0EA2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D076-A788-4916-84BD-078E30C4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3004-D9D7-4755-93D6-74D0329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F076-C75F-46B3-87AC-E809523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1930-A4C1-4494-836F-0B041EA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223A-1383-41B2-B7FD-AAA77453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854C-FC9C-49D8-8593-A95B3293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CBF2-BDE4-4B1D-83FE-D9D511BC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BBDC-182F-4EAD-8B99-40B72D56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90EC-E257-4488-88F0-59E981B6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13A2-DCA5-4257-9FBE-AB1997D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162-5C16-4B8C-9359-92FA535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EA13-1382-477C-8296-6E1C5630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055A-78FF-4A0C-B169-D578A74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E535-BF06-47D9-A790-9B6C661C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6E04-E97E-4CE3-BB6E-9AF7B01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74C5-505E-4721-8A0A-447DB8E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1EC9-D882-4E23-8C4E-C9EF143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BD0AD-BD45-4813-B4CE-1CDB97E4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F8851-9C23-4999-854F-D93D1B9E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7EE4-A7CB-4449-BCC4-24BCA120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4896-520B-4972-AC59-A6C2719C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51C-D8DF-48D8-ABD2-EE712B4F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8481-CAE3-40F1-8D9E-0D55112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8029F-A35F-46CF-BA28-2E0D2887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0C6A0-68BA-4D00-88B2-65965D1D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0A01-C2B1-4A3E-B3C5-06717C2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3F67-BBEA-4406-BC98-E82C3993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1756-CE0B-4C88-B5E4-A1D423CA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730E-51F2-40E8-9D12-3046427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5F0B1-3EF0-423A-B524-28C239D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68B03-A5E5-47CE-A7FF-D55D842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FDF87-278F-4A7E-9013-CB4FB96D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EC0-F36A-4F58-ACEB-EF508E1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5573-4D18-4E08-BDA4-BF03A8DA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D79A-9000-4678-9D1C-E29BB92C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B40A-580E-49F9-BAF3-0FB57695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DE12-18D6-4F17-BA61-48678BC0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3B0B4-527C-4825-ABFD-D96CDFA3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80E4-35B8-462B-B0D0-077249F1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B81B0-32EA-4A60-81E1-84823246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4113B-9625-4633-9BC0-BD49E731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64FF-74E8-4400-8CAF-81A7689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77DA-CCDD-4F04-976A-72AE78EF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6D7-BBE3-4C85-BAFF-5344E474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BCA2A-305C-4B85-940A-F0006A45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6582-6754-4E1F-96BD-CF95415F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48951-E079-4D80-B891-D92CF2BF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5C58-4CA4-467A-9921-797A0B54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A74C-F8B2-449F-90F8-4241871B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1470D-FB80-448F-B675-F14134C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65548-8174-4E98-AA8A-CE970F78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40012-8123-4480-87D8-703126CE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862F8-A781-43B7-8737-BE09440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BF78-C735-4C51-9FEB-3F1600E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7BD-06C4-4326-AB6D-AD708A6A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34252-D0DA-4EC5-A23C-4A1F04B0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2E1D3-9C69-4BD5-9FE4-8A4EE3C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41AF6-71EF-413A-84E7-4AE102ED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19C21-955C-45AF-99AC-EAB013AF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1C2CC-038D-461B-91D7-DF18A5DC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66EAB-D8D4-4B2D-AA2F-69E51429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7F5A-EE91-4544-82D3-76F8F29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568B-EE20-4083-8F89-1F5F8D4E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0308B-220E-44CE-AE9D-FECE5CB9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4A862-2AD0-454B-AC30-911A006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039-E349-4BCD-864B-B40AF582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80D2-480D-44C3-81BD-4E833E1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A031-FE49-41E7-996E-1958A215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AA38-9D37-41CC-ADF4-AB1BACC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FAE56-4C82-479E-88FE-677B54A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174B-E240-41A2-A0CB-6B80E425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45E9-74D4-4A99-BDD4-E519438A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4BB54-B8DE-4904-89AC-7BC358DD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97DD-65B1-4ECF-84B9-22659C9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3E00-B453-47D3-8C8D-A0BDCA7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AB283-1464-45E1-B1FE-6EA1237A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B34A-6014-4744-B50E-6394DBD550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376-7058-4DFD-B9C9-748157891A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F6C-499E-45AD-AAC4-F35852E2B3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3B26-EDE9-4ACC-AC36-7C8FCAA53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FC3F-40AA-45A9-9D6F-0947B35CE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7878-CD68-47C1-8188-9DD2A355A2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37B8-8BE3-469D-8DD7-AD461094C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FA08-0342-42C7-A4FB-EF7B999B8E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A987-D35C-4DB8-8868-01985BC2F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A1C-DD93-4B20-A1FF-DDAFEF686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3FD-8F15-4805-9120-8BAF86AEE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9F93-ACD1-4727-86B1-3D34DE5A4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6AD5-61E3-4430-8679-87F6A2E2F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21BE-8AB4-42A7-8324-98EC9EF8D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D70E-7856-4955-B596-4B04B3E9E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E0A7-4D59-43A4-87DF-29A6BC1A7C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11F8-AE17-45D6-A62C-33B93361E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7E7E-9D90-4B32-A2E5-B82EC9BF9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EB32-C60E-45F4-9612-1FBA8C021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EBC1-F340-4467-B640-19D8CD7DE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FCF2-332B-46D6-B624-CF67F8633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09E-B89E-4C48-8BBC-4D3B05729F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D2C7-811E-4044-88D5-CF9A00A78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942D-87AB-4DA2-9C02-471E83CC7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AF4D-DAB0-4CEE-A89C-BC1766F6E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B2B-D979-42F8-858C-A2AE54DA7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C176-8453-44DC-B749-B956C38BA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105F-6506-4878-8E2A-D406CB4AD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0A84-0A21-4B12-9BDC-62A12760A8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5BC8-F72C-4076-A7EC-1C106A8FC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810-549F-4E39-93F8-884F2300A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5E3E-FFFE-491D-ACC9-368A27612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374E-314F-43BD-AEA1-56B0E5E8F3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D3E-3B68-464B-A4F4-EB5882CD7F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AAF1-DEB8-4FB6-93D9-4DCAD22855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7AC4-C526-4933-86D0-BD533B56A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0DA8-112B-46C3-9589-0AC20A13B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91DF-DFA7-4834-B2ED-82D26E2F9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EBC-36A4-48C9-BBDC-CF0A38D29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33F2-927B-4713-92BF-FF50EA879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8FA-75C5-40AB-9125-A6FC2C74B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E40-1366-478C-9772-6141F6952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0360" y="2973240"/>
            <a:ext cx="8961480" cy="254340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708360" y="1289160"/>
            <a:ext cx="1762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85680" y="361800"/>
            <a:ext cx="8972640" cy="64389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2"/>
          <a:stretch/>
        </p:blipFill>
        <p:spPr>
          <a:xfrm>
            <a:off x="39528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3"/>
          <a:stretch/>
        </p:blipFill>
        <p:spPr>
          <a:xfrm>
            <a:off x="395280" y="48261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4"/>
          <a:stretch/>
        </p:blipFill>
        <p:spPr>
          <a:xfrm>
            <a:off x="395280" y="530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5"/>
          <a:stretch/>
        </p:blipFill>
        <p:spPr>
          <a:xfrm>
            <a:off x="468360" y="5661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6"/>
          <a:stretch/>
        </p:blipFill>
        <p:spPr>
          <a:xfrm>
            <a:off x="395280" y="6093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1" descr=""/>
          <p:cNvPicPr/>
          <p:nvPr/>
        </p:nvPicPr>
        <p:blipFill>
          <a:blip r:embed="rId1"/>
          <a:stretch/>
        </p:blipFill>
        <p:spPr>
          <a:xfrm>
            <a:off x="461880" y="2448000"/>
            <a:ext cx="8218440" cy="19620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2"/>
          <a:stretch/>
        </p:blipFill>
        <p:spPr>
          <a:xfrm>
            <a:off x="826920" y="24066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4"/>
          <a:stretch/>
        </p:blipFill>
        <p:spPr>
          <a:xfrm>
            <a:off x="826920" y="32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5"/>
          <a:stretch/>
        </p:blipFill>
        <p:spPr>
          <a:xfrm>
            <a:off x="755640" y="36734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6"/>
          <a:stretch/>
        </p:blipFill>
        <p:spPr>
          <a:xfrm>
            <a:off x="755640" y="407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5" name="图片 1" descr=""/>
          <p:cNvPicPr/>
          <p:nvPr/>
        </p:nvPicPr>
        <p:blipFill>
          <a:blip r:embed="rId1"/>
          <a:stretch/>
        </p:blipFill>
        <p:spPr>
          <a:xfrm>
            <a:off x="114480" y="839880"/>
            <a:ext cx="8915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314280" y="1438200"/>
            <a:ext cx="8515440" cy="39816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图片 1" descr=""/>
          <p:cNvPicPr/>
          <p:nvPr/>
        </p:nvPicPr>
        <p:blipFill>
          <a:blip r:embed="rId1"/>
          <a:stretch/>
        </p:blipFill>
        <p:spPr>
          <a:xfrm>
            <a:off x="1004760" y="1781280"/>
            <a:ext cx="7134480" cy="32954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3" name="图片 1" descr=""/>
          <p:cNvPicPr/>
          <p:nvPr/>
        </p:nvPicPr>
        <p:blipFill>
          <a:blip r:embed="rId1"/>
          <a:stretch/>
        </p:blipFill>
        <p:spPr>
          <a:xfrm>
            <a:off x="104760" y="800280"/>
            <a:ext cx="8934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104760" y="1214280"/>
            <a:ext cx="8934480" cy="442944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2"/>
          <a:stretch/>
        </p:blipFill>
        <p:spPr>
          <a:xfrm>
            <a:off x="468360" y="27957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图片 1" descr=""/>
          <p:cNvPicPr/>
          <p:nvPr/>
        </p:nvPicPr>
        <p:blipFill>
          <a:blip r:embed="rId1"/>
          <a:stretch/>
        </p:blipFill>
        <p:spPr>
          <a:xfrm>
            <a:off x="181080" y="1824120"/>
            <a:ext cx="8781840" cy="32097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3"/>
          <a:stretch/>
        </p:blipFill>
        <p:spPr>
          <a:xfrm>
            <a:off x="468360" y="256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43200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图片 1" descr=""/>
          <p:cNvPicPr/>
          <p:nvPr/>
        </p:nvPicPr>
        <p:blipFill>
          <a:blip r:embed="rId1"/>
          <a:stretch/>
        </p:blipFill>
        <p:spPr>
          <a:xfrm>
            <a:off x="50760" y="917640"/>
            <a:ext cx="8933040" cy="326700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2" descr=""/>
          <p:cNvPicPr/>
          <p:nvPr/>
        </p:nvPicPr>
        <p:blipFill>
          <a:blip r:embed="rId2"/>
          <a:stretch/>
        </p:blipFill>
        <p:spPr>
          <a:xfrm>
            <a:off x="130320" y="4184640"/>
            <a:ext cx="5838840" cy="11811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1547640" y="4956120"/>
            <a:ext cx="3816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图片 1" descr=""/>
          <p:cNvPicPr/>
          <p:nvPr/>
        </p:nvPicPr>
        <p:blipFill>
          <a:blip r:embed="rId1"/>
          <a:stretch/>
        </p:blipFill>
        <p:spPr>
          <a:xfrm>
            <a:off x="600120" y="1809720"/>
            <a:ext cx="7943760" cy="323856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2"/>
          <a:stretch/>
        </p:blipFill>
        <p:spPr>
          <a:xfrm>
            <a:off x="1116000" y="2162160"/>
            <a:ext cx="251928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3"/>
          <a:stretch/>
        </p:blipFill>
        <p:spPr>
          <a:xfrm>
            <a:off x="4356000" y="2176560"/>
            <a:ext cx="201636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4"/>
          <a:stretch/>
        </p:blipFill>
        <p:spPr>
          <a:xfrm>
            <a:off x="1187280" y="2995560"/>
            <a:ext cx="108108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5"/>
          <a:stretch/>
        </p:blipFill>
        <p:spPr>
          <a:xfrm>
            <a:off x="3059280" y="2982960"/>
            <a:ext cx="1081080" cy="3492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6"/>
          <a:stretch/>
        </p:blipFill>
        <p:spPr>
          <a:xfrm>
            <a:off x="1763640" y="3803760"/>
            <a:ext cx="3529080" cy="3492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7"/>
          <a:stretch/>
        </p:blipFill>
        <p:spPr>
          <a:xfrm>
            <a:off x="2527200" y="4624560"/>
            <a:ext cx="2303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96920" y="782640"/>
            <a:ext cx="2722320" cy="59040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328680" y="1824120"/>
            <a:ext cx="8485200" cy="3209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256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299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3860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11280" y="4653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图片 1" descr=""/>
          <p:cNvPicPr/>
          <p:nvPr/>
        </p:nvPicPr>
        <p:blipFill>
          <a:blip r:embed="rId1"/>
          <a:stretch/>
        </p:blipFill>
        <p:spPr>
          <a:xfrm>
            <a:off x="171360" y="558720"/>
            <a:ext cx="8801280" cy="625788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2"/>
          <a:stretch/>
        </p:blipFill>
        <p:spPr>
          <a:xfrm>
            <a:off x="3059280" y="2335320"/>
            <a:ext cx="93636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3"/>
          <a:stretch/>
        </p:blipFill>
        <p:spPr>
          <a:xfrm>
            <a:off x="1979640" y="272268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4"/>
          <a:stretch/>
        </p:blipFill>
        <p:spPr>
          <a:xfrm>
            <a:off x="5651640" y="314172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5"/>
          <a:stretch/>
        </p:blipFill>
        <p:spPr>
          <a:xfrm>
            <a:off x="3419640" y="3543480"/>
            <a:ext cx="1368360" cy="3492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6"/>
          <a:stretch/>
        </p:blipFill>
        <p:spPr>
          <a:xfrm>
            <a:off x="2987640" y="3962520"/>
            <a:ext cx="86364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7"/>
          <a:stretch/>
        </p:blipFill>
        <p:spPr>
          <a:xfrm>
            <a:off x="4500720" y="4767120"/>
            <a:ext cx="1368360" cy="3495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8"/>
          <a:stretch/>
        </p:blipFill>
        <p:spPr>
          <a:xfrm>
            <a:off x="5076720" y="5186520"/>
            <a:ext cx="136836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9"/>
          <a:stretch/>
        </p:blipFill>
        <p:spPr>
          <a:xfrm>
            <a:off x="3059280" y="5591160"/>
            <a:ext cx="936360" cy="3492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10"/>
          <a:stretch/>
        </p:blipFill>
        <p:spPr>
          <a:xfrm>
            <a:off x="4932360" y="599292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11"/>
          <a:stretch/>
        </p:blipFill>
        <p:spPr>
          <a:xfrm>
            <a:off x="2484360" y="6408720"/>
            <a:ext cx="1152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图片 1" descr=""/>
          <p:cNvPicPr/>
          <p:nvPr/>
        </p:nvPicPr>
        <p:blipFill>
          <a:blip r:embed="rId1"/>
          <a:stretch/>
        </p:blipFill>
        <p:spPr>
          <a:xfrm>
            <a:off x="604800" y="907920"/>
            <a:ext cx="7932600" cy="54658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2"/>
          <a:stretch/>
        </p:blipFill>
        <p:spPr>
          <a:xfrm>
            <a:off x="4140360" y="51436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1" descr=""/>
          <p:cNvPicPr/>
          <p:nvPr/>
        </p:nvPicPr>
        <p:blipFill>
          <a:blip r:embed="rId1"/>
          <a:stretch/>
        </p:blipFill>
        <p:spPr>
          <a:xfrm>
            <a:off x="765000" y="1123920"/>
            <a:ext cx="5886720" cy="3228840"/>
          </a:xfrm>
          <a:prstGeom prst="rect">
            <a:avLst/>
          </a:prstGeom>
          <a:ln w="0">
            <a:noFill/>
          </a:ln>
        </p:spPr>
      </p:pic>
      <p:pic>
        <p:nvPicPr>
          <p:cNvPr id="1205" name="图片 2" descr=""/>
          <p:cNvPicPr/>
          <p:nvPr/>
        </p:nvPicPr>
        <p:blipFill>
          <a:blip r:embed="rId2"/>
          <a:stretch/>
        </p:blipFill>
        <p:spPr>
          <a:xfrm>
            <a:off x="765000" y="4449600"/>
            <a:ext cx="4067280" cy="3906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3"/>
          <a:stretch/>
        </p:blipFill>
        <p:spPr>
          <a:xfrm>
            <a:off x="1835280" y="10666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4"/>
          <a:stretch/>
        </p:blipFill>
        <p:spPr>
          <a:xfrm>
            <a:off x="1835280" y="18874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5"/>
          <a:stretch/>
        </p:blipFill>
        <p:spPr>
          <a:xfrm>
            <a:off x="1908000" y="2708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6"/>
          <a:stretch/>
        </p:blipFill>
        <p:spPr>
          <a:xfrm>
            <a:off x="1908000" y="393372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2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1" descr=""/>
          <p:cNvPicPr/>
          <p:nvPr/>
        </p:nvPicPr>
        <p:blipFill>
          <a:blip r:embed="rId1"/>
          <a:stretch/>
        </p:blipFill>
        <p:spPr>
          <a:xfrm>
            <a:off x="166680" y="487440"/>
            <a:ext cx="8809200" cy="618012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2"/>
          <a:stretch/>
        </p:blipFill>
        <p:spPr>
          <a:xfrm>
            <a:off x="784080" y="502776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3"/>
          <a:stretch/>
        </p:blipFill>
        <p:spPr>
          <a:xfrm>
            <a:off x="4010040" y="502776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4"/>
          <a:stretch/>
        </p:blipFill>
        <p:spPr>
          <a:xfrm>
            <a:off x="7093080" y="499896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5"/>
          <a:stretch/>
        </p:blipFill>
        <p:spPr>
          <a:xfrm>
            <a:off x="900000" y="543096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6"/>
          <a:stretch/>
        </p:blipFill>
        <p:spPr>
          <a:xfrm>
            <a:off x="4125960" y="543096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7"/>
          <a:stretch/>
        </p:blipFill>
        <p:spPr>
          <a:xfrm>
            <a:off x="7209000" y="5402160"/>
            <a:ext cx="158400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8"/>
          <a:stretch/>
        </p:blipFill>
        <p:spPr>
          <a:xfrm>
            <a:off x="755640" y="5848200"/>
            <a:ext cx="1584360" cy="34956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9"/>
          <a:stretch/>
        </p:blipFill>
        <p:spPr>
          <a:xfrm>
            <a:off x="3981600" y="5848200"/>
            <a:ext cx="1584000" cy="3495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10"/>
          <a:stretch/>
        </p:blipFill>
        <p:spPr>
          <a:xfrm>
            <a:off x="7064280" y="583416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11"/>
          <a:stretch/>
        </p:blipFill>
        <p:spPr>
          <a:xfrm>
            <a:off x="755640" y="6251400"/>
            <a:ext cx="158436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图片 1" descr=""/>
          <p:cNvPicPr/>
          <p:nvPr/>
        </p:nvPicPr>
        <p:blipFill>
          <a:blip r:embed="rId1"/>
          <a:stretch/>
        </p:blipFill>
        <p:spPr>
          <a:xfrm>
            <a:off x="120600" y="841320"/>
            <a:ext cx="8904240" cy="577224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2"/>
          <a:stretch/>
        </p:blipFill>
        <p:spPr>
          <a:xfrm>
            <a:off x="366840" y="6180120"/>
            <a:ext cx="8569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图片 1" descr=""/>
          <p:cNvPicPr/>
          <p:nvPr/>
        </p:nvPicPr>
        <p:blipFill>
          <a:blip r:embed="rId1"/>
          <a:stretch/>
        </p:blipFill>
        <p:spPr>
          <a:xfrm>
            <a:off x="166680" y="2557440"/>
            <a:ext cx="8809200" cy="17431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" descr=""/>
          <p:cNvPicPr/>
          <p:nvPr/>
        </p:nvPicPr>
        <p:blipFill>
          <a:blip r:embed="rId2"/>
          <a:stretch/>
        </p:blipFill>
        <p:spPr>
          <a:xfrm>
            <a:off x="208080" y="2550960"/>
            <a:ext cx="8713800" cy="3495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3"/>
          <a:stretch/>
        </p:blipFill>
        <p:spPr>
          <a:xfrm>
            <a:off x="179280" y="2965320"/>
            <a:ext cx="8785440" cy="34956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4"/>
          <a:stretch/>
        </p:blipFill>
        <p:spPr>
          <a:xfrm>
            <a:off x="208080" y="337032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5"/>
          <a:stretch/>
        </p:blipFill>
        <p:spPr>
          <a:xfrm>
            <a:off x="158760" y="3786120"/>
            <a:ext cx="87850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85760" y="981000"/>
            <a:ext cx="8771040" cy="4896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539640" y="3429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611280" y="47242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614520" y="1819440"/>
            <a:ext cx="7913520" cy="3219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419040" y="1600200"/>
            <a:ext cx="8305920" cy="36576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33200" y="1690560"/>
            <a:ext cx="8877600" cy="34768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2"/>
          <a:stretch/>
        </p:blipFill>
        <p:spPr>
          <a:xfrm>
            <a:off x="6516720" y="2852640"/>
            <a:ext cx="1727280" cy="3492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3132000" y="344340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2340000" y="4033800"/>
            <a:ext cx="273672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2627280" y="4610160"/>
            <a:ext cx="201600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6227640" y="4624560"/>
            <a:ext cx="22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23840" y="784080"/>
            <a:ext cx="8896320" cy="54864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395280" y="18302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39528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338040" y="785880"/>
            <a:ext cx="8466120" cy="56674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611280" y="40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285840" y="630360"/>
            <a:ext cx="8572320" cy="4895640"/>
          </a:xfrm>
          <a:prstGeom prst="rect">
            <a:avLst/>
          </a:prstGeom>
          <a:ln w="0">
            <a:noFill/>
          </a:ln>
        </p:spPr>
      </p:pic>
      <p:pic>
        <p:nvPicPr>
          <p:cNvPr id="1146" name="图片 2" descr=""/>
          <p:cNvPicPr/>
          <p:nvPr/>
        </p:nvPicPr>
        <p:blipFill>
          <a:blip r:embed="rId2"/>
          <a:stretch/>
        </p:blipFill>
        <p:spPr>
          <a:xfrm>
            <a:off x="285840" y="5526000"/>
            <a:ext cx="8048520" cy="12384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3"/>
          <a:stretch/>
        </p:blipFill>
        <p:spPr>
          <a:xfrm>
            <a:off x="611280" y="620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4"/>
          <a:stretch/>
        </p:blipFill>
        <p:spPr>
          <a:xfrm>
            <a:off x="611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5"/>
          <a:stretch/>
        </p:blipFill>
        <p:spPr>
          <a:xfrm>
            <a:off x="611280" y="22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6"/>
          <a:stretch/>
        </p:blipFill>
        <p:spPr>
          <a:xfrm>
            <a:off x="611280" y="39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7"/>
          <a:stretch/>
        </p:blipFill>
        <p:spPr>
          <a:xfrm>
            <a:off x="539640" y="4724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8"/>
          <a:stretch/>
        </p:blipFill>
        <p:spPr>
          <a:xfrm>
            <a:off x="61128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0:1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